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ADA2-E5D6-4A7C-9F1D-DAA569E5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E655-8C59-44CF-B5FF-39179BEC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E8B2-EFDC-49A8-AC09-DED23BE6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C665-2C71-40DE-9B6C-CF1C541E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14C3-C4B9-4223-A489-FDCA5CF5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8910-AE45-4058-A987-926022CB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36E3-BF1E-43AA-8C5F-E8329E37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7B05-4F1E-44DF-A7D5-E584E216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8C80-A08C-425F-B36B-E9D1DEFE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E615-1EF9-4217-A855-B899DFAA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A41E-5876-4149-BF6A-C8725227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32B-7042-42B5-B1E9-42F92892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BB26-F806-4EC3-A459-DA8D63A0F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1147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4648320" cy="714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7080" y="17892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" y="3429000"/>
            <a:ext cx="78487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059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686800" cy="1724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429000" y="22860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600200"/>
            <a:ext cx="2895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598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534520" y="3049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257800" cy="4479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90720" y="1828800"/>
            <a:ext cx="1143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3962520"/>
            <a:ext cx="1143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2:18:04Z</dcterms:created>
  <dc:creator>grahams</dc:creator>
  <dc:description/>
  <dc:language>en-US</dc:language>
  <cp:lastModifiedBy>grahams</cp:lastModifiedBy>
  <dcterms:modified xsi:type="dcterms:W3CDTF">2012-03-22T12:52:51Z</dcterms:modified>
  <cp:revision>2</cp:revision>
  <dc:subject/>
  <dc:title>Slide 1</dc:title>
</cp:coreProperties>
</file>